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1B1-ECA0-43B6-BD37-C854F4C2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F46-1C03-4947-AAA6-BFC6D1C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32B-5AEF-4480-89D4-84CCCB30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183-B5D5-4A0D-93B9-FD082596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E1F4-E2DC-4510-B601-AB00872A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C77-EED0-43FE-909B-6F53F33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163-4299-470F-B3F9-C1D4F3A9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876-D262-41AB-A248-53E91AF0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AAF-8271-4EF2-AA5F-0FC35D5C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EAC-9BD5-4CF2-BD99-D58B633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6F1-D775-4F42-A9D0-2433D4CB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8F7-9D53-4907-9FA5-D9D1838F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04B8-5464-4172-8188-A78FEBEFA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267336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3851280" y="3830760"/>
            <a:ext cx="5149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99ff"/>
                </a:solidFill>
                <a:latin typeface="comic"/>
              </a:rPr>
              <a:t>29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да бъде с вас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довиждане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 вас да е благодатта Му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 мирът, и любовта Му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225000" cy="689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4000" y="260280"/>
            <a:ext cx="55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От лукавий да ви брани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и с небесна манна храни!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96000" y="549360"/>
            <a:ext cx="2781360" cy="2363760"/>
          </a:xfrm>
          <a:prstGeom prst="rect">
            <a:avLst/>
          </a:prstGeom>
          <a:ln w="57240">
            <a:solidFill>
              <a:srgbClr val="ffff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826920" y="2973240"/>
            <a:ext cx="5329440" cy="3934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Свои чада да ви счита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под особена защита!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92720" y="501480"/>
            <a:ext cx="3284640" cy="213552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900000" y="2708280"/>
            <a:ext cx="5688000" cy="393444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Бог да бъде с вас, довиждане! Той да бъде ваш Учител, Спътник, Вожд и Покровител! Бог да бъде с вас, довиждане!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125360"/>
            <a:ext cx="4752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99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Господ с вас, Господ с вас, Господ с вас от този час! Господ с вас, Господ с вас, Бог да бъде с вас, довижд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8:36:37Z</dcterms:created>
  <dc:creator>TrifonTrifonow</dc:creator>
  <dc:description/>
  <dc:language>en-US</dc:language>
  <cp:lastModifiedBy>TrifonTrifonow</cp:lastModifiedBy>
  <dcterms:modified xsi:type="dcterms:W3CDTF">2005-12-08T09:25:35Z</dcterms:modified>
  <cp:revision>17</cp:revision>
  <dc:subject/>
  <dc:title>Slide 1</dc:title>
</cp:coreProperties>
</file>